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772-0D9B-4648-B21C-1D34C8776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st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M&amp;E Frame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s are borrowed from the social sciences.  Helpful tool for planning programs, specific interventions, research, and M&amp;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hensive view of the factors that drive an intervention – the epidemiology of TB, local resources, donor eff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us see what is contributing to challenges and suc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 can be synergistic or sometimes represent obstacles to our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One example is health sector reform – can visualize how these changes will affect program with a framework and plan for anticipated challe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y assumptions, goals, and interrelationships among factors relevant to the project o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levels of performance and desired results in terms of planned activities and realistic, objective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and evaluation frameworks incorpor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managers’ assumptions and objectives, in a given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atic design displaying the directional linkages between key program elements and/or planned results, and other releva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&amp;E takes place at multiple stages of a program. It is important to identify at the outset how we will gather information at each level of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drives selection of indicators and reporting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7C27-F2B0-45C9-A31C-7AEA9E1A5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574640" y="228600"/>
            <a:ext cx="3557880" cy="266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22240" y="3077640"/>
            <a:ext cx="52308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y relationship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puts are necessary to create processes, which drive the production of outputs an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iterates the point on the previous slid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generic example of an M&amp;E framework for a national TB program.  This framework shows the linear relationships between inputs, processes, outputs, outcomes, and impact.  It also provides a visual interpretation of the broad context for the NTP, which inclu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syste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-econom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ical context of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is to expand on it and create a M&amp;E logical framework that could be used to guide planning, monitoring and evaluating the introduction of directly observed therapy as the standard of care for smear positive TB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0082-7329-4912-A473-15F4F5823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403280" y="863640"/>
            <a:ext cx="4054680" cy="3041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2960" y="4203720"/>
            <a:ext cx="50320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other way to understand frameworks – think about the level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F19-EC37-4E94-893D-CC7B98B8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956-F033-42DE-8F3F-36FE696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076-B68F-442C-8DB2-A154CF31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A4C-BE92-4EF6-B56C-1F34F579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A767-6EF2-40BA-9E25-B1BA343D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FA5-E82F-420D-9EC3-1E5FC989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CAD4-AF99-4FBB-B176-214887A2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0472-5C9E-4675-AF8E-5AA44715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4A4C-4D64-4B40-9A36-653C861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E3F0-B1C8-4833-B5A8-45E43A73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B2D4-0E7D-4BBE-9DD7-9D621B4D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E68-8C32-4A09-A45C-68F12496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51B0-0EEE-4F00-9409-DF35990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5A3E-AD53-4171-AB67-374900E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7605-C8AB-4001-8E00-9AF7464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9E9B-B5EA-4BED-BC09-B80F13EC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1DA0-ABF8-4A31-8624-11229A60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531-BC67-4036-B570-7DF5565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392-3A97-46F4-B3A7-071FF8C9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40F-4DEE-4D87-A278-F07AB56B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270-79FE-4CCF-A88C-406DFE25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8A3-A1BC-4CF7-99D1-AF3B524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531-727F-41E8-A52E-1664DC7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248-C416-4BC0-9C05-5A15EF9A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EF4-9CC4-4D43-9117-5EFDD40361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ECE0-1218-4B72-BFD7-740879D16D6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onitoring and Evaluation Framework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yiv, Ukra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23,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395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397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715000" y="5486400"/>
            <a:ext cx="29797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&amp;E Frame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s, pictures or m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ze the factors that drive an inter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s that illustrate how a progra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relationships between factors that influence program operation and the successful achievement of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do we use M&amp;E framework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27524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nd plann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a ‘map’ for program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s between resources an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 selection of indicator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E L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OGICAL</a:t>
            </a: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RAMEWORK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the relationships between program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puts,  Processes,  Outputs, and Outco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the program to desir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04920" y="1219320"/>
            <a:ext cx="137160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and manageri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1219320"/>
            <a:ext cx="1752480" cy="336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 resource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illa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33920" y="1219320"/>
            <a:ext cx="1447560" cy="29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1219320"/>
            <a:ext cx="1828800" cy="17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h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315200" y="1219320"/>
            <a:ext cx="1447920" cy="17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4876920"/>
            <a:ext cx="8381880" cy="157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 commitment     Health system        Socio-economic conditions      Epi-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ility                                                                                     HIV preva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                                                                                             Mal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tilization                                                                                       Alcohol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457200"/>
            <a:ext cx="6095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E logical framework for TB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23623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362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2362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23623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590920" y="4571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62120" y="3962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781680" y="29718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495680" y="41907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28600" y="1828800"/>
            <a:ext cx="13716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uidelines for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1828800"/>
            <a:ext cx="1670040" cy="31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 of HC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stribution of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1828800"/>
            <a:ext cx="1798560" cy="404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CWs trained to provide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s available at fac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atients receiving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eatment outcomes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10080" y="1828800"/>
            <a:ext cx="1944720" cy="29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ure  and treatment comple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d failure and defaul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51640" y="1828800"/>
            <a:ext cx="1692360" cy="211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rbidity/ mortality due to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ention of MDR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228600"/>
            <a:ext cx="82184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Arial"/>
              </a:rPr>
              <a:t>Logic Framework 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Arial"/>
              </a:rPr>
              <a:t>Directly Observ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562360" cy="1104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gic Framework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c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act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Level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leve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44956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4380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76312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3800" y="4495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program components should be monito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egic and systematic planning of M&amp;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 methodology for M&amp;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cator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gic Framework Group Wor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Read through the case study with your assigned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Identify the goal, objectives and activities for addressing this problem and list them on form 1.  Then use the logic model on form 1 to identify key inputs, processes, outputs and outcome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Each group will report back to the larger group on the draft framework/activ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2:06:50Z</dcterms:created>
  <dc:creator>kmacint</dc:creator>
  <dc:description/>
  <dc:language>en-US</dc:language>
  <cp:lastModifiedBy>Stephanie Mullen</cp:lastModifiedBy>
  <cp:lastPrinted>2005-02-21T22:17:27Z</cp:lastPrinted>
  <dcterms:modified xsi:type="dcterms:W3CDTF">2006-05-23T10:14:55Z</dcterms:modified>
  <cp:revision>28</cp:revision>
  <dc:subject/>
  <dc:title>Conceptual Frameworks</dc:title>
</cp:coreProperties>
</file>